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D70-2B58-40A6-AD1A-535AC731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A30-35B2-4315-980B-C1315AE0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B9B-0606-49C6-8E3B-620F1B89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330-2A84-4F99-A650-6535C61A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EF40-B1FB-4617-B246-5FB12DC8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8D03-C54B-4179-AC3E-C2B5B552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3AE6-A48A-4A98-BB2B-22719C05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350A-7FBB-4059-87DE-7312CF79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C28A-FDE5-48A6-BD38-B19D39C9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70F9-1C40-477B-B401-84B5F16F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712E-1428-44B3-A8F8-7BB1B232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03F-170A-456B-A07B-DA7F9A8D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F771-A6F7-457D-8887-45905455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D7C1-E8EA-40B2-9F33-2A6B94FA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60C2-D0B2-4358-933D-1AAA8213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2F84-E09C-47D3-AEFC-B82B7F3C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D6A5-42AA-410C-81F1-D86F2912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C69-533F-4E03-943D-783C73B1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D45-55E2-4B48-94CA-2CA6FC34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786-E107-4EF7-930C-B84CAA1C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F70-E135-4CD4-8484-2A00F30D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CCF-439C-45A0-B487-AA90705E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54E-1515-4173-B84C-719DF45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BA7-3DD7-4ECE-AD7A-51BC7640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07280" y="7086600"/>
            <a:ext cx="314280" cy="23184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2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4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6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35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53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5B5DF8C-1C48-4A10-9C8D-CDBF1F741A76}" type="datetime">
              <a:rPr b="0" lang="en-US" sz="15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7253242-80A8-4B7B-B977-A8B30F7A14F0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107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109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21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140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158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2E89F8C-AB0F-4DB0-ADD6-A626F46850F1}" type="datetime">
              <a:rPr b="0" lang="en-US" sz="15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9023B3C-5C40-4C08-84EC-3E75766D151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08000" algn="ctr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11280" algn="ctr">
              <a:spcBef>
                <a:spcPts val="550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16000" algn="ctr"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Bases de TCP/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Direccionamiento y ruteo de TCP/I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MAC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(Control de Acceso al Medio) son direcciones únicas dadas a los clientes de una 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primera parte de la dirección MAC es asignada al fabricante del hardwa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resto de la dirección es determinada por cada fabrica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positivos que no son administrables (ejemplo, HUBs y algunos switches) no tienen dirección MA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son usadas para direccionar en la capa de enlace de datos (capa 2) del modelo de red O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no son usadas para agrup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dentro de una 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alogía: Las direcciones MAC son como el numero de CURP de cada perso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IP son usadas para el direccionamiento lógico en la capa de red (capa 3) del modelo de red O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l como las direcciones MAC donde no hay similitud entre 2 direcciones, con la diferencia que las direcciones IP permiten agrupar computado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recciones 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Únicas, dirección de 32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referenciadas por humanos vía notación decimal, un numero por cada 8 bits (1 octeto o byte), ejemplo., 159.148.147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de tres clases primarias A, B, and C (clase D es para multicast) en la forma [netid:hosti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ogía: Direcciones IP son como la dirección postal de cada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lases de direcciones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15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Los primeros 3 bits de una dirección IP hacen la cla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152360" y="2916360"/>
          <a:ext cx="7848360" cy="3703680"/>
        </p:xfrm>
        <a:graphic>
          <a:graphicData uri="http://schemas.openxmlformats.org/drawingml/2006/table">
            <a:tbl>
              <a:tblPr/>
              <a:tblGrid>
                <a:gridCol w="2344680"/>
                <a:gridCol w="1220760"/>
                <a:gridCol w="1314360"/>
                <a:gridCol w="1501920"/>
                <a:gridCol w="1466640"/>
              </a:tblGrid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.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XX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X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Broadca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ón multi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lases de 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03280" y="1908000"/>
          <a:ext cx="9072360" cy="4264200"/>
        </p:xfrm>
        <a:graphic>
          <a:graphicData uri="http://schemas.openxmlformats.org/drawingml/2006/table">
            <a:tbl>
              <a:tblPr/>
              <a:tblGrid>
                <a:gridCol w="1944720"/>
                <a:gridCol w="3313080"/>
                <a:gridCol w="381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de dire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127.0.0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127.XXX.XXX.XX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.xxx.0.0 - 191.xxx.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xxx.yyy.0 - 223.xxx.yyy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.xxx.yyy.zzz - 239.xxx.yyy.z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Sub-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Redes IP dadas, pueden dividirse en redes mas pequeñas, llamadas sub-red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El tamaño de una subred es determinada por la mascara de red (mascara de sub-red, mascara de red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Mascaras de sub-redes tienen el hostid con todos los bits=0, y el netid con todos los bits=1, por ejemplo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11111111 10000000 (255.255.255.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11111111 00000000 (255.255.255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00000000 00000000 (255.255.0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La operación lógica AND es usada para calcular la dirección de red desde direcciones 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y mascara de re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10100101 (h:128.192.10.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1111111 11111111 11111111 00000000 (s:255.255.255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00000000 (n:128.192.1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Calcula la dirección de red del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, si la mascara es de 26 bits (use la dirección 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del ejemplo pasado)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10100101 (h:128.192.10.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1111111 11111111 11111111 11000000 (s:255.255.255.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________ (n:128.192.10.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pacio de direccionamiento y sub-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recciones para hosts están disponibles cuando dividimos una red de 24 bits en sub-re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19280" y="3132000"/>
          <a:ext cx="8785080" cy="3700440"/>
        </p:xfrm>
        <a:graphic>
          <a:graphicData uri="http://schemas.openxmlformats.org/drawingml/2006/table">
            <a:tbl>
              <a:tblPr/>
              <a:tblGrid>
                <a:gridCol w="1222200"/>
                <a:gridCol w="2448000"/>
                <a:gridCol w="1297080"/>
                <a:gridCol w="1298520"/>
                <a:gridCol w="1297080"/>
                <a:gridCol w="12222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s en r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-red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s/ subr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s disponib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from 25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1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19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Punto a Pun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s proporcionan un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efectivo uso del espacio de direccionami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Pueden ser usadas en comunicaciones punto a punto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ente A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rección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6.1/3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7.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B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rección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7.1/3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6.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Broadcas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de broadcast es usada para “hablar” con todos l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a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broadcast es una dirección con la porción del 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liente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nfigurada solo con 1’s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8.192.10.255 para la red 128.192.10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8.192.10.191 para la red  128.192.10.128/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oadcasts son necesarios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comunicación inicial con o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jemplo, resolución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DHCP y asignación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56000" y="3995640"/>
            <a:ext cx="3887280" cy="1800000"/>
            <a:chOff x="3456000" y="3995640"/>
            <a:chExt cx="3887280" cy="1800000"/>
          </a:xfrm>
        </p:grpSpPr>
        <p:sp>
          <p:nvSpPr>
            <p:cNvPr id="215" name=""/>
            <p:cNvSpPr/>
            <p:nvPr/>
          </p:nvSpPr>
          <p:spPr>
            <a:xfrm>
              <a:off x="3666240" y="4795560"/>
              <a:ext cx="630000" cy="299160"/>
            </a:xfrm>
            <a:prstGeom prst="cube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6000" y="3995640"/>
              <a:ext cx="418680" cy="400680"/>
            </a:xfrm>
            <a:prstGeom prst="can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10880" y="3995640"/>
              <a:ext cx="632160" cy="299520"/>
            </a:xfrm>
            <a:prstGeom prst="rect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6840" y="4995720"/>
              <a:ext cx="629280" cy="299520"/>
            </a:xfrm>
            <a:prstGeom prst="rect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00280" y="4695840"/>
              <a:ext cx="1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5" idx="5"/>
              <a:endCxn id="217" idx="1"/>
            </p:cNvCxnSpPr>
            <p:nvPr/>
          </p:nvCxnSpPr>
          <p:spPr>
            <a:xfrm flipV="1">
              <a:off x="4296240" y="4145040"/>
              <a:ext cx="31500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1" name=""/>
            <p:cNvCxnSpPr>
              <a:stCxn id="215" idx="5"/>
              <a:endCxn id="218" idx="1"/>
            </p:cNvCxnSpPr>
            <p:nvPr/>
          </p:nvCxnSpPr>
          <p:spPr>
            <a:xfrm>
              <a:off x="4296600" y="4907160"/>
              <a:ext cx="210960" cy="23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15" idx="0"/>
              <a:endCxn id="216" idx="3"/>
            </p:cNvCxnSpPr>
            <p:nvPr/>
          </p:nvCxnSpPr>
          <p:spPr>
            <a:xfrm flipH="1" flipV="1">
              <a:off x="3665880" y="4395960"/>
              <a:ext cx="354960" cy="39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3" name=""/>
            <p:cNvSpPr/>
            <p:nvPr/>
          </p:nvSpPr>
          <p:spPr>
            <a:xfrm>
              <a:off x="3771000" y="5394600"/>
              <a:ext cx="418680" cy="401040"/>
            </a:xfrm>
            <a:prstGeom prst="can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15" idx="3"/>
              <a:endCxn id="223" idx="1"/>
            </p:cNvCxnSpPr>
            <p:nvPr/>
          </p:nvCxnSpPr>
          <p:spPr>
            <a:xfrm>
              <a:off x="3941640" y="5094720"/>
              <a:ext cx="39960" cy="30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5977080" y="4396320"/>
              <a:ext cx="1154880" cy="1099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70520" y="439632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0520" y="4995720"/>
              <a:ext cx="421560" cy="40068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6720" y="519624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21720" y="469584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06720" y="419580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17" idx="3"/>
              <a:endCxn id="226" idx="1"/>
            </p:cNvCxnSpPr>
            <p:nvPr/>
          </p:nvCxnSpPr>
          <p:spPr>
            <a:xfrm>
              <a:off x="5243040" y="4145400"/>
              <a:ext cx="734400" cy="45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32" name=""/>
          <p:cNvSpPr/>
          <p:nvPr/>
        </p:nvSpPr>
        <p:spPr>
          <a:xfrm>
            <a:off x="504720" y="1763640"/>
            <a:ext cx="9072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Una red 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usualmente 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considerad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como un medio fisico que interconecta dispositivos que pueden transferir datos entre ell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ominio Broadcas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 dominio de broadcast es parte de la red que puede “oír” trafico de broadcast generado en los hosts de la r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Redes remotas pueden incorporarse dentro de un bridge sobre un túnel para crear un dominio de broadcas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protocolo ARP (Protocolo de resolución de direcciones) es usado para asociar direcciones MAC con direcciones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proceso de ARP funciona de la siguiente mane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solicitante de ARP manda u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quete (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 broadcast con la información del la ip destino, la ip origen y la dirección MAC, preguntando por la dirección MAC desti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cliente con la dirección ip destino manda un frame directo de regreso al solicitante llenando en el su dirección MAC y guardando la dirección MAC de el  en la tabla ARP o ca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a minimizar los broadcasts debidos a requisiciones tipo ARP, las direcciones ip de los clientes y los gateways guardan tablas de direcciones MAC y direcciones IP llamadas tablas de arp o ca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uertos TCP/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Una vez que los datos han arribado a su destino, los puertos de tcp/ip definen cual servicio o propósito tiene dicho trafico. Los puertos s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ositivos, números enteros de 16 bits (1…6553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uertos muy conocidos son del 1…1023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;21 - F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2 - S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3 - Tel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- SM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0 - HT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0 - POP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43 – HT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uertos definidos por el usuario son del 1024…6553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conexión TCP es definida como el par de números (ip_origen:puerto) y  (ip_destino:puerto)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Conexiones diferentes pueden usar el mismo puerto de destino en el server siempre y cuando los puertos origen o la ip origen sean diferen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tablecimiento de 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6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conexión TCP es establecida usando un “proceso de 3 vías“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iente mand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 requisición de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SY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erver responde con SYN,A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iente manda un A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80000" y="435600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435600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40360" y="4427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80360" y="4427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80000" y="4356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0000" y="5580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0000" y="500364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,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Mandando Dato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7516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CP divide e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j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 datos en seg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envía manda datos en en seg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recibe da acuse de reci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manda, manda el siguiente segment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no se recibe acuse de recibo, el segmento de datos se vuelve a m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caso que la conexión sea abortada, una bandera RTS es usada para notificarle al que 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69080" y="1908000"/>
            <a:ext cx="0" cy="374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53440" y="190800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27640" y="19796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569440" y="1979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69080" y="190800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69080" y="313200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9080" y="255600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69080" y="378000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69080" y="4356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69080" y="500364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errando 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59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conexión TCP es cerrada usando un proceso modificado de 3 ví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 inicia, manda una petición de 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 recibe responde con un acuse de recibo, con un FIN y una solicitud de acuse de recibo 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t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t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anda el acuse de reci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80000" y="4427640"/>
            <a:ext cx="0" cy="24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64360" y="4354560"/>
            <a:ext cx="0" cy="252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572000"/>
            <a:ext cx="16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09080" y="4500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80000" y="442764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80000" y="622764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80000" y="565164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,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80000" y="514656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Puede una red interna de un país ser considerada una intrane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i / No, Ejemplos 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Que dispositivos extienden un dominio de Broadcas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Que dispositivos deben ser usados para limitar un dominio de Broadcas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LANs y WAN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red de área local (LAN) usualmente esta limitada a un area limitada, ejemplo, dentro de un edificio o territorio local como un campus de universidad y puede consistir de una o mas redes físicas interconectada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red de área amplia es una serie de LANS interconectadas y que se distribuye sobre un gran territorio o distancia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Intranets e Internet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Las redes de acuerdo al control administrativo que tienen están clasificadas como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Intrane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Una Intranet son LANs o una WAN bajo un solo control administrativo y usualmente provee servicios para uso interno dentro de una organizació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Internet es una serie de of WANs interconectadas por diferentes tipos de medio y no tiene un solo control administrativ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rotocolos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dispositivos usan protocolos para comunicarse entr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CP/IP (Internetwork Protocol) es el principal y mas usado de los protocolos de red para que ellos se comuniqu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CP/IP ha sido diseñado para man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a dispon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ependiente de cualquier plata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ependiente de cualquier tipo de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s protocolos de red son netBEUI, IPX/SPX, y Apple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ncapsulación e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107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apsulación es el concepto principal del diseño de 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apsulación significa poner una cosa dentro de otra 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904000" y="3924360"/>
            <a:ext cx="160020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0800000">
            <a:off x="609120" y="3962160"/>
            <a:ext cx="792360" cy="1150920"/>
          </a:xfrm>
          <a:prstGeom prst="foldedCorner">
            <a:avLst>
              <a:gd name="adj" fmla="val 27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etter"/>
          <p:cNvSpPr/>
          <p:nvPr/>
        </p:nvSpPr>
        <p:spPr>
          <a:xfrm>
            <a:off x="1676520" y="4038480"/>
            <a:ext cx="1623960" cy="851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05320"/>
            <a:ext cx="1584360" cy="503280"/>
          </a:xfrm>
          <a:custGeom>
            <a:avLst/>
            <a:gdLst>
              <a:gd name="textAreaLeft" fmla="*/ 267840 w 1584360"/>
              <a:gd name="textAreaRight" fmla="*/ 1176840 w 1584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04" hR="21600" stAng="10800000" swAng="5400000"/>
                <a:lnTo>
                  <a:pt x="12392" y="0"/>
                </a:lnTo>
                <a:arcTo wR="7304" hR="21600" stAng="-5400000" swAng="2787353"/>
                <a:lnTo>
                  <a:pt x="21250" y="14991"/>
                </a:lnTo>
                <a:lnTo>
                  <a:pt x="17152" y="21600"/>
                </a:lnTo>
                <a:lnTo>
                  <a:pt x="12354" y="14991"/>
                </a:lnTo>
                <a:lnTo>
                  <a:pt x="14258" y="14991"/>
                </a:lnTo>
                <a:arcTo wR="7304" hR="21600" stAng="-2612647" swAng="-2357668"/>
                <a:lnTo>
                  <a:pt x="9848" y="1353"/>
                </a:lnTo>
                <a:arcTo wR="7304" hR="21600" stAng="-5829685" swAng="-4970315"/>
                <a:close/>
              </a:path>
              <a:path fill="darkenLess" w="21600" h="21600">
                <a:moveTo>
                  <a:pt x="0" y="21600"/>
                </a:moveTo>
                <a:arcTo wR="7304" hR="21600" stAng="10800000" swAng="5400000"/>
                <a:lnTo>
                  <a:pt x="7304" y="0"/>
                </a:lnTo>
                <a:arcTo wR="7304" hR="21600" stAng="-5400000" swAng="429685"/>
                <a:lnTo>
                  <a:pt x="9848" y="1353"/>
                </a:lnTo>
                <a:arcTo wR="7304" hR="21600" stAng="-5829685" swAng="-4970315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2690600">
            <a:off x="8640360" y="2842560"/>
            <a:ext cx="792360" cy="1150920"/>
          </a:xfrm>
          <a:prstGeom prst="foldedCorner">
            <a:avLst>
              <a:gd name="adj" fmla="val 27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6248520"/>
            <a:ext cx="4105440" cy="718920"/>
          </a:xfrm>
          <a:custGeom>
            <a:avLst/>
            <a:gdLst>
              <a:gd name="textAreaLeft" fmla="*/ 823680 w 4105440"/>
              <a:gd name="textAreaRight" fmla="*/ 2871000 w 410544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69" hR="21600" stAng="10800000" swAng="-5400000"/>
                <a:lnTo>
                  <a:pt x="10772" y="21600"/>
                </a:lnTo>
                <a:arcTo wR="8669" hR="21600" stAng="5400000" swAng="-2917241"/>
                <a:lnTo>
                  <a:pt x="21104" y="7200"/>
                </a:lnTo>
                <a:lnTo>
                  <a:pt x="18389" y="0"/>
                </a:lnTo>
                <a:lnTo>
                  <a:pt x="14681" y="7200"/>
                </a:lnTo>
                <a:lnTo>
                  <a:pt x="16841" y="7200"/>
                </a:lnTo>
                <a:arcTo wR="8669" hR="21600" stAng="2482759" swAng="2748779"/>
                <a:lnTo>
                  <a:pt x="9720" y="21440"/>
                </a:lnTo>
                <a:arcTo wR="8669" hR="21600" stAng="5568461" swAng="5231539"/>
                <a:close/>
              </a:path>
              <a:path fill="darkenLess" w="21600" h="21600">
                <a:moveTo>
                  <a:pt x="0" y="0"/>
                </a:moveTo>
                <a:arcTo wR="8669" hR="21600" stAng="10800000" swAng="-5400000"/>
                <a:lnTo>
                  <a:pt x="10772" y="21600"/>
                </a:lnTo>
                <a:arcTo wR="8669" hR="21600" stAng="5400000" swAng="168461"/>
                <a:lnTo>
                  <a:pt x="9720" y="21440"/>
                </a:lnTo>
                <a:arcTo wR="8669" hR="21600" stAng="5568461" swAng="5231539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4952880"/>
            <a:ext cx="1224000" cy="12970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9200" y="4475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96080" y="4572000"/>
            <a:ext cx="1225800" cy="360360"/>
          </a:xfrm>
          <a:custGeom>
            <a:avLst/>
            <a:gdLst>
              <a:gd name="textAreaLeft" fmla="*/ 214560 w 1225800"/>
              <a:gd name="textAreaRight" fmla="*/ 888840 w 12258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etter"/>
          <p:cNvSpPr/>
          <p:nvPr/>
        </p:nvSpPr>
        <p:spPr>
          <a:xfrm>
            <a:off x="8229600" y="3505320"/>
            <a:ext cx="1623960" cy="850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tándar OS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Estándar Open System Interconnection (OSI) fue originalmente usado cuando se crearon los protocolos de red (tales como TCP/IP e IPX, etc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Estándar OSI usa un modelo de 7 capas de red para describir el direccionamiento de red, análisis de datos, y capacidades de red del diferente hardwa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Los beneficios de usar un modelo de capas s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90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da capa del modelo OSI es responsable de ciertas tareas especi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90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erentes tecnologías pueden convivir de una manera estandar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907236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Modelo OSI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429000" y="2133720"/>
          <a:ext cx="3581280" cy="39448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Aplicac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Presentac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Ses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Transporte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Re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Enlace de datos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Físic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2514600" y="2133720"/>
            <a:ext cx="576360" cy="3128760"/>
          </a:xfrm>
          <a:prstGeom prst="downArrow">
            <a:avLst>
              <a:gd name="adj1" fmla="val 56472"/>
              <a:gd name="adj2" fmla="val 52953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7314840" y="2133720"/>
            <a:ext cx="576360" cy="3124080"/>
          </a:xfrm>
          <a:prstGeom prst="downArrow">
            <a:avLst>
              <a:gd name="adj1" fmla="val 56472"/>
              <a:gd name="adj2" fmla="val 5287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752480"/>
            <a:ext cx="21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ión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64360" y="176364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pción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5486400"/>
            <a:ext cx="576000" cy="720720"/>
          </a:xfrm>
          <a:prstGeom prst="rightArrow">
            <a:avLst>
              <a:gd name="adj1" fmla="val 49778"/>
              <a:gd name="adj2" fmla="val 58125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5486400"/>
            <a:ext cx="576360" cy="720720"/>
          </a:xfrm>
          <a:prstGeom prst="rightArrow">
            <a:avLst>
              <a:gd name="adj1" fmla="val 49778"/>
              <a:gd name="adj2" fmla="val 58125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apas del Modelo OS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90400" indent="-590400">
              <a:spcBef>
                <a:spcPts val="67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Un buen entendimiento de las primeras 3 capas de red es requerido para entender los conceptos básicos de red, como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so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de puertos, firewall, y NA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1) La capa física son las conexiones físicas (cables, tarjetas de red y dispositivos que levantan la 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2) La capa de enlace de datos transfiere paquetes dentro de raw bits para ser transmitidos sobre la capa fí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3) La capa de red es responsable del direccionamiento 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fonso Urbina Araux</cp:lastModifiedBy>
  <dcterms:modified xsi:type="dcterms:W3CDTF">2006-02-23T19:58:43Z</dcterms:modified>
  <cp:revision>83</cp:revision>
  <dc:subject/>
  <dc:title>TCP/IP Basics</dc:title>
</cp:coreProperties>
</file>